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C4B2-0A48-4501-8D8D-4BD3631AF8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1227-37FB-4C7C-BA59-B473BCF0C8F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5920" y="453240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3200" y="228600"/>
            <a:ext cx="3779640" cy="749160"/>
          </a:xfrm>
          <a:prstGeom prst="wedgeRectCallout">
            <a:avLst>
              <a:gd name="adj1" fmla="val 55935"/>
              <a:gd name="adj2" fmla="val 111328"/>
            </a:avLst>
          </a:prstGeom>
          <a:solidFill>
            <a:srgbClr val="9e1d3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ducts launched after Q1/04 no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o be communicated to ops 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2" name=""/>
          <p:cNvCxnSpPr>
            <a:stCxn id="560" idx="0"/>
            <a:endCxn id="560" idx="1"/>
          </p:cNvCxnSpPr>
          <p:nvPr/>
        </p:nvCxnSpPr>
        <p:spPr>
          <a:xfrm>
            <a:off x="673200" y="453204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563" name=""/>
          <p:cNvCxnSpPr>
            <a:stCxn id="560" idx="2"/>
            <a:endCxn id="560" idx="3"/>
          </p:cNvCxnSpPr>
          <p:nvPr/>
        </p:nvCxnSpPr>
        <p:spPr>
          <a:xfrm>
            <a:off x="673200" y="473688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93014F82-537C-487D-9F7C-B74B1666F654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31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6F1B0632-4E87-401B-8A24-C5449939E0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45200" y="2343240"/>
            <a:ext cx="239760" cy="4651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84960" y="2343240"/>
            <a:ext cx="630360" cy="46512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6240" y="1428840"/>
            <a:ext cx="857520" cy="20016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32240" y="4808520"/>
            <a:ext cx="4489200" cy="101772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9280" y="5826240"/>
            <a:ext cx="4502160" cy="385560"/>
          </a:xfrm>
          <a:prstGeom prst="rect">
            <a:avLst/>
          </a:prstGeom>
          <a:solidFill>
            <a:srgbClr val="87b8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53160" y="3830760"/>
            <a:ext cx="1263600" cy="97776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840" y="3830760"/>
            <a:ext cx="5440320" cy="97776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4280" y="1917720"/>
            <a:ext cx="4971960" cy="48096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4280" y="2905200"/>
            <a:ext cx="4971960" cy="52524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43760" y="1428840"/>
            <a:ext cx="873000" cy="488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43760" y="2808360"/>
            <a:ext cx="873000" cy="6220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43760" y="1916280"/>
            <a:ext cx="873000" cy="42696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1040" y="3430440"/>
            <a:ext cx="6704280" cy="4003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1040" y="2398680"/>
            <a:ext cx="4975200" cy="5065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1040" y="1425600"/>
            <a:ext cx="4975200" cy="4921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1040" y="4808520"/>
            <a:ext cx="2212920" cy="86508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5670720"/>
            <a:ext cx="2210040" cy="527040"/>
          </a:xfrm>
          <a:prstGeom prst="rect">
            <a:avLst/>
          </a:prstGeom>
          <a:solidFill>
            <a:srgbClr val="87b8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45440" y="3030480"/>
            <a:ext cx="164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hone cla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78720" y="3279600"/>
            <a:ext cx="14032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mo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45440" y="4718160"/>
            <a:ext cx="164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Feature lev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78720" y="5010120"/>
            <a:ext cx="14032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.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lour Displ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/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le Phones </a:t>
            </a: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EMEA Roadmap CY 2004/2005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December 03, 2004; Status 07.12.0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345440" y="438480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345440" y="3507480"/>
            <a:ext cx="179280" cy="179640"/>
          </a:xfrm>
          <a:prstGeom prst="triangle">
            <a:avLst>
              <a:gd name="adj" fmla="val 50000"/>
            </a:avLst>
          </a:prstGeom>
          <a:solidFill>
            <a:srgbClr val="a92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45440" y="328932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669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345440" y="372744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345440" y="394668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345440" y="416556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345440" y="5634000"/>
            <a:ext cx="179280" cy="17928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45440" y="5853240"/>
            <a:ext cx="179280" cy="179280"/>
          </a:xfrm>
          <a:prstGeom prst="rect">
            <a:avLst/>
          </a:prstGeom>
          <a:solidFill>
            <a:srgbClr val="87b8e5">
              <a:alpha val="50000"/>
            </a:srgbClr>
          </a:solidFill>
          <a:ln w="9360">
            <a:solidFill>
              <a:srgbClr val="e6f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345440" y="5415120"/>
            <a:ext cx="179280" cy="179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345440" y="5195880"/>
            <a:ext cx="179280" cy="17928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345440" y="4975920"/>
            <a:ext cx="179280" cy="17964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25800" y="1930320"/>
            <a:ext cx="122040" cy="412560"/>
            <a:chOff x="2125800" y="1930320"/>
            <a:chExt cx="122040" cy="412560"/>
          </a:xfrm>
        </p:grpSpPr>
        <p:sp>
          <p:nvSpPr>
            <p:cNvPr id="128" name=""/>
            <p:cNvSpPr/>
            <p:nvPr/>
          </p:nvSpPr>
          <p:spPr>
            <a:xfrm>
              <a:off x="2125800" y="193032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25800" y="20127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25800" y="21366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25800" y="2178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25800" y="22190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25800" y="2260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5800" y="2301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760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8736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5568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95240" y="2378160"/>
            <a:ext cx="11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36480" y="2413080"/>
            <a:ext cx="122400" cy="412560"/>
            <a:chOff x="636480" y="2413080"/>
            <a:chExt cx="122400" cy="412560"/>
          </a:xfrm>
        </p:grpSpPr>
        <p:sp>
          <p:nvSpPr>
            <p:cNvPr id="140" name=""/>
            <p:cNvSpPr/>
            <p:nvPr/>
          </p:nvSpPr>
          <p:spPr>
            <a:xfrm>
              <a:off x="636480" y="2413080"/>
              <a:ext cx="122400" cy="41256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655">
                  <a:moveTo>
                    <a:pt x="3600" y="0"/>
                  </a:moveTo>
                  <a:arcTo wR="3600" hR="3600" stAng="16200000" swAng="-5400000"/>
                  <a:lnTo>
                    <a:pt x="0" y="69055"/>
                  </a:lnTo>
                  <a:arcTo wR="3600" hR="3600" stAng="10800000" swAng="-5400000"/>
                  <a:lnTo>
                    <a:pt x="18000" y="726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6480" y="2495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6480" y="2619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6480" y="26607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6480" y="2701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6480" y="2743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6480" y="27846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64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840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672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666800" y="36669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FX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052720" y="3716280"/>
            <a:ext cx="207360" cy="387360"/>
            <a:chOff x="2052720" y="3716280"/>
            <a:chExt cx="207360" cy="387360"/>
          </a:xfrm>
        </p:grpSpPr>
        <p:sp>
          <p:nvSpPr>
            <p:cNvPr id="152" name=""/>
            <p:cNvSpPr/>
            <p:nvPr/>
          </p:nvSpPr>
          <p:spPr>
            <a:xfrm>
              <a:off x="2134800" y="371628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2720" y="394632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4800" y="37936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4800" y="39099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21120" y="39679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95560" y="40068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77920" y="40456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089800" y="39679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6320" y="40770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119320" y="397044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152440" y="39679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527840" y="520380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68360" y="5238720"/>
            <a:ext cx="122400" cy="412920"/>
            <a:chOff x="1368360" y="5238720"/>
            <a:chExt cx="122400" cy="412920"/>
          </a:xfrm>
        </p:grpSpPr>
        <p:sp>
          <p:nvSpPr>
            <p:cNvPr id="165" name=""/>
            <p:cNvSpPr/>
            <p:nvPr/>
          </p:nvSpPr>
          <p:spPr>
            <a:xfrm>
              <a:off x="1368360" y="5238720"/>
              <a:ext cx="122400" cy="41292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718">
                  <a:moveTo>
                    <a:pt x="3600" y="0"/>
                  </a:moveTo>
                  <a:arcTo wR="3600" hR="3600" stAng="16200000" swAng="-5400000"/>
                  <a:lnTo>
                    <a:pt x="0" y="69118"/>
                  </a:lnTo>
                  <a:arcTo wR="3600" hR="3600" stAng="10800000" swAng="-5400000"/>
                  <a:lnTo>
                    <a:pt x="18000" y="72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68360" y="5321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68360" y="5445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68360" y="54864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68360" y="5527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68360" y="5569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68360" y="561024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6052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3028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9860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865680" y="28576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8280" y="333216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53040" y="356076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16880" y="445464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42320" y="377028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91240" y="3770280"/>
            <a:ext cx="8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2320" y="2881440"/>
            <a:ext cx="62712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ir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83240" y="2922480"/>
            <a:ext cx="122040" cy="412920"/>
            <a:chOff x="4683240" y="2922480"/>
            <a:chExt cx="122040" cy="412920"/>
          </a:xfrm>
        </p:grpSpPr>
        <p:sp>
          <p:nvSpPr>
            <p:cNvPr id="183" name=""/>
            <p:cNvSpPr/>
            <p:nvPr/>
          </p:nvSpPr>
          <p:spPr>
            <a:xfrm>
              <a:off x="4683240" y="292248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83240" y="30052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3240" y="31291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83240" y="3170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83240" y="3211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83240" y="32529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83240" y="3294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40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4516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1348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646440" y="1424160"/>
            <a:ext cx="0" cy="47736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20920" y="1420920"/>
            <a:ext cx="0" cy="477684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32240" y="1420920"/>
            <a:ext cx="0" cy="47768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7760" y="1425600"/>
            <a:ext cx="0" cy="477216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70520" y="1424160"/>
            <a:ext cx="0" cy="47736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2280" y="1425600"/>
            <a:ext cx="155160" cy="4771800"/>
            <a:chOff x="152280" y="1425600"/>
            <a:chExt cx="155160" cy="4771800"/>
          </a:xfrm>
        </p:grpSpPr>
        <p:sp>
          <p:nvSpPr>
            <p:cNvPr id="199" name=""/>
            <p:cNvSpPr/>
            <p:nvPr/>
          </p:nvSpPr>
          <p:spPr>
            <a:xfrm>
              <a:off x="152280" y="1425600"/>
              <a:ext cx="155160" cy="47718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-38160" y="3710520"/>
              <a:ext cx="55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ositio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7800" y="1293840"/>
            <a:ext cx="11131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676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20920" y="1293840"/>
            <a:ext cx="11113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188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32240" y="1293840"/>
            <a:ext cx="111420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3264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46440" y="1293840"/>
            <a:ext cx="11113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454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53080" y="1293840"/>
            <a:ext cx="111276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60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0520" y="1293840"/>
            <a:ext cx="114480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8532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35120" y="1166760"/>
            <a:ext cx="4480200" cy="12384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12320" y="11714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CY20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7800" y="1165320"/>
            <a:ext cx="2227320" cy="12708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29120" y="11714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CY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21440" y="1403280"/>
            <a:ext cx="45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yd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805360" y="1444680"/>
            <a:ext cx="303120" cy="291960"/>
            <a:chOff x="5805360" y="1444680"/>
            <a:chExt cx="303120" cy="291960"/>
          </a:xfrm>
        </p:grpSpPr>
        <p:sp>
          <p:nvSpPr>
            <p:cNvPr id="219" name=""/>
            <p:cNvSpPr/>
            <p:nvPr/>
          </p:nvSpPr>
          <p:spPr>
            <a:xfrm>
              <a:off x="5805360" y="1593720"/>
              <a:ext cx="236520" cy="1429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9240" y="1614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57560" y="16495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7040" y="1684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851080" y="161460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10040" y="17128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886000" y="1616040"/>
              <a:ext cx="76320" cy="9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927400" y="161460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71960" y="1444680"/>
              <a:ext cx="236520" cy="1760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46480" y="14907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03640" y="15526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1177560" y="189396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L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3120" y="2071800"/>
            <a:ext cx="236520" cy="142920"/>
          </a:xfrm>
          <a:custGeom>
            <a:avLst/>
            <a:gdLst/>
            <a:ahLst/>
            <a:rect l="l" t="t" r="r" b="b"/>
            <a:pathLst>
              <a:path w="297" h="195">
                <a:moveTo>
                  <a:pt x="126" y="3"/>
                </a:moveTo>
                <a:lnTo>
                  <a:pt x="294" y="0"/>
                </a:lnTo>
                <a:lnTo>
                  <a:pt x="297" y="27"/>
                </a:lnTo>
                <a:lnTo>
                  <a:pt x="174" y="195"/>
                </a:lnTo>
                <a:lnTo>
                  <a:pt x="6" y="192"/>
                </a:lnTo>
                <a:lnTo>
                  <a:pt x="0" y="174"/>
                </a:lnTo>
                <a:lnTo>
                  <a:pt x="126" y="3"/>
                </a:lnTo>
                <a:close/>
              </a:path>
            </a:pathLst>
          </a:custGeom>
          <a:solidFill>
            <a:srgbClr val="a92b7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7000" y="20923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95320" y="21272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88840" y="2092320"/>
            <a:ext cx="7632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923760" y="2093760"/>
            <a:ext cx="76320" cy="9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965160" y="2092320"/>
            <a:ext cx="7632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09720" y="1922400"/>
            <a:ext cx="236520" cy="176400"/>
          </a:xfrm>
          <a:custGeom>
            <a:avLst/>
            <a:gdLst/>
            <a:ahLst/>
            <a:rect l="l" t="t" r="r" b="b"/>
            <a:pathLst>
              <a:path w="297" h="195">
                <a:moveTo>
                  <a:pt x="126" y="3"/>
                </a:moveTo>
                <a:lnTo>
                  <a:pt x="294" y="0"/>
                </a:lnTo>
                <a:lnTo>
                  <a:pt x="297" y="27"/>
                </a:lnTo>
                <a:lnTo>
                  <a:pt x="174" y="195"/>
                </a:lnTo>
                <a:lnTo>
                  <a:pt x="6" y="192"/>
                </a:lnTo>
                <a:lnTo>
                  <a:pt x="0" y="174"/>
                </a:lnTo>
                <a:lnTo>
                  <a:pt x="126" y="3"/>
                </a:lnTo>
                <a:close/>
              </a:path>
            </a:pathLst>
          </a:custGeom>
          <a:solidFill>
            <a:srgbClr val="a92b7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84240" y="196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1400" y="203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32480" y="189396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olf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309920" y="4807080"/>
            <a:ext cx="122400" cy="412560"/>
            <a:chOff x="4309920" y="4807080"/>
            <a:chExt cx="122400" cy="412560"/>
          </a:xfrm>
        </p:grpSpPr>
        <p:sp>
          <p:nvSpPr>
            <p:cNvPr id="242" name=""/>
            <p:cNvSpPr/>
            <p:nvPr/>
          </p:nvSpPr>
          <p:spPr>
            <a:xfrm>
              <a:off x="4309920" y="4807080"/>
              <a:ext cx="122400" cy="41256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655">
                  <a:moveTo>
                    <a:pt x="3600" y="0"/>
                  </a:moveTo>
                  <a:arcTo wR="3600" hR="3600" stAng="16200000" swAng="-5400000"/>
                  <a:lnTo>
                    <a:pt x="0" y="69055"/>
                  </a:lnTo>
                  <a:arcTo wR="3600" hR="3600" stAng="10800000" swAng="-5400000"/>
                  <a:lnTo>
                    <a:pt x="18000" y="726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09920" y="4889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09920" y="5013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09920" y="50544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09920" y="5095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09920" y="5137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09920" y="517824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017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711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05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805680" y="565776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25320" y="5688000"/>
            <a:ext cx="122040" cy="412920"/>
            <a:chOff x="625320" y="5688000"/>
            <a:chExt cx="122040" cy="412920"/>
          </a:xfrm>
        </p:grpSpPr>
        <p:sp>
          <p:nvSpPr>
            <p:cNvPr id="254" name=""/>
            <p:cNvSpPr/>
            <p:nvPr/>
          </p:nvSpPr>
          <p:spPr>
            <a:xfrm>
              <a:off x="625320" y="568800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5320" y="57708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5320" y="58946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5320" y="59356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5320" y="59770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5320" y="6018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5320" y="6059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748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724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56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85960" y="520380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b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314960" y="5238720"/>
            <a:ext cx="122040" cy="412920"/>
            <a:chOff x="4314960" y="5238720"/>
            <a:chExt cx="122040" cy="412920"/>
          </a:xfrm>
        </p:grpSpPr>
        <p:sp>
          <p:nvSpPr>
            <p:cNvPr id="266" name=""/>
            <p:cNvSpPr/>
            <p:nvPr/>
          </p:nvSpPr>
          <p:spPr>
            <a:xfrm>
              <a:off x="4314960" y="523872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4960" y="5321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14960" y="54453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14960" y="5486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14960" y="55278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14960" y="55692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14960" y="56102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0676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7652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4484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957760" y="5337000"/>
            <a:ext cx="56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781360" y="5372280"/>
            <a:ext cx="122040" cy="412560"/>
            <a:chOff x="2781360" y="5372280"/>
            <a:chExt cx="122040" cy="412560"/>
          </a:xfrm>
        </p:grpSpPr>
        <p:sp>
          <p:nvSpPr>
            <p:cNvPr id="278" name=""/>
            <p:cNvSpPr/>
            <p:nvPr/>
          </p:nvSpPr>
          <p:spPr>
            <a:xfrm>
              <a:off x="2781360" y="537228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81360" y="54547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81360" y="5578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81360" y="56196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81360" y="5661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81360" y="5702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81360" y="5743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7316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4292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1124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935440" y="23544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F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708280" y="2387520"/>
            <a:ext cx="207720" cy="387360"/>
            <a:chOff x="2708280" y="2387520"/>
            <a:chExt cx="207720" cy="387360"/>
          </a:xfrm>
        </p:grpSpPr>
        <p:sp>
          <p:nvSpPr>
            <p:cNvPr id="290" name=""/>
            <p:cNvSpPr/>
            <p:nvPr/>
          </p:nvSpPr>
          <p:spPr>
            <a:xfrm>
              <a:off x="2791440" y="2387520"/>
              <a:ext cx="124560" cy="231840"/>
            </a:xfrm>
            <a:custGeom>
              <a:avLst/>
              <a:gdLst>
                <a:gd name="textAreaLeft" fmla="*/ 5760 w 124560"/>
                <a:gd name="textAreaRight" fmla="*/ 118800 w 124560"/>
                <a:gd name="textAreaTop" fmla="*/ 5760 h 231840"/>
                <a:gd name="textAreaBottom" fmla="*/ 226080 h 231840"/>
              </a:gdLst>
              <a:ahLst/>
              <a:rect l="textAreaLeft" t="textAreaTop" r="textAreaRight" b="textAreaBottom"/>
              <a:pathLst>
                <a:path w="21600" h="40150">
                  <a:moveTo>
                    <a:pt x="3600" y="0"/>
                  </a:moveTo>
                  <a:arcTo wR="3600" hR="3600" stAng="16200000" swAng="-5400000"/>
                  <a:lnTo>
                    <a:pt x="0" y="36550"/>
                  </a:lnTo>
                  <a:arcTo wR="3600" hR="3600" stAng="10800000" swAng="-5400000"/>
                  <a:lnTo>
                    <a:pt x="18000" y="40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08280" y="2617920"/>
              <a:ext cx="195120" cy="15696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91440" y="246528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91440" y="258120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7040" y="2639880"/>
              <a:ext cx="12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51840" y="267804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34200" y="271620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744280" y="2639880"/>
              <a:ext cx="64440" cy="106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12600" y="2747880"/>
              <a:ext cx="12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775240" y="264168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808720" y="2639880"/>
              <a:ext cx="63000" cy="106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50840" y="6261480"/>
            <a:ext cx="7004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*1) SK65 and S64 w/o camera; *2) S64, Aries to be finally confirmed ; ODMs: CFX65, SF65, Mars, Wega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3360" y="337176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en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81440" y="3408480"/>
            <a:ext cx="123840" cy="412560"/>
            <a:chOff x="4681440" y="3408480"/>
            <a:chExt cx="123840" cy="412560"/>
          </a:xfrm>
        </p:grpSpPr>
        <p:sp>
          <p:nvSpPr>
            <p:cNvPr id="304" name=""/>
            <p:cNvSpPr/>
            <p:nvPr/>
          </p:nvSpPr>
          <p:spPr>
            <a:xfrm>
              <a:off x="4681440" y="340848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81440" y="34909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81440" y="36147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81440" y="3655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81440" y="36972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81440" y="37386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81440" y="37796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7432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4336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1240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959440" y="3827520"/>
            <a:ext cx="459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89560" y="2889360"/>
            <a:ext cx="48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74800" y="2162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00" y="2190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16400" y="3809880"/>
            <a:ext cx="61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e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218280" y="1917720"/>
            <a:ext cx="122040" cy="412560"/>
            <a:chOff x="6218280" y="1917720"/>
            <a:chExt cx="122040" cy="412560"/>
          </a:xfrm>
        </p:grpSpPr>
        <p:sp>
          <p:nvSpPr>
            <p:cNvPr id="320" name=""/>
            <p:cNvSpPr/>
            <p:nvPr/>
          </p:nvSpPr>
          <p:spPr>
            <a:xfrm>
              <a:off x="6218280" y="191772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2b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18280" y="2000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18280" y="2124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18280" y="2165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18280" y="2206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18280" y="22478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18280" y="22892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1008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7984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4816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84840" y="237816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ol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97800" y="254016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17680" y="208116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1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08200" y="25430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7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60400" y="384192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1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39720" y="5372280"/>
            <a:ext cx="3416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08480" y="3043080"/>
            <a:ext cx="3524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29360" y="1573200"/>
            <a:ext cx="3398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73240" y="206532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8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45080" y="2055960"/>
            <a:ext cx="3589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73720" y="4971960"/>
            <a:ext cx="36180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16400" y="4011480"/>
            <a:ext cx="3589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7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7280" y="3046320"/>
            <a:ext cx="3571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81640" y="5372280"/>
            <a:ext cx="36180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7040" y="58388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7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75040" y="550548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57400" y="2522520"/>
            <a:ext cx="3430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78240" y="35402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59440" y="39974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38880" y="3063960"/>
            <a:ext cx="3715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2440" y="1033560"/>
            <a:ext cx="1454760" cy="152640"/>
          </a:xfrm>
          <a:prstGeom prst="rect">
            <a:avLst/>
          </a:prstGeom>
          <a:solidFill>
            <a:srgbClr val="5656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Market availability 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778120" y="5799240"/>
            <a:ext cx="512640" cy="442800"/>
            <a:chOff x="2778120" y="5799240"/>
            <a:chExt cx="512640" cy="442800"/>
          </a:xfrm>
        </p:grpSpPr>
        <p:sp>
          <p:nvSpPr>
            <p:cNvPr id="353" name=""/>
            <p:cNvSpPr/>
            <p:nvPr/>
          </p:nvSpPr>
          <p:spPr>
            <a:xfrm>
              <a:off x="2959200" y="579924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2778120" y="5829480"/>
              <a:ext cx="122040" cy="412560"/>
              <a:chOff x="2778120" y="5829480"/>
              <a:chExt cx="122040" cy="412560"/>
            </a:xfrm>
          </p:grpSpPr>
          <p:sp>
            <p:nvSpPr>
              <p:cNvPr id="355" name=""/>
              <p:cNvSpPr/>
              <p:nvPr/>
            </p:nvSpPr>
            <p:spPr>
              <a:xfrm>
                <a:off x="2778120" y="5829480"/>
                <a:ext cx="122040" cy="412560"/>
              </a:xfrm>
              <a:custGeom>
                <a:avLst/>
                <a:gdLst>
                  <a:gd name="textAreaLeft" fmla="*/ 5760 w 122040"/>
                  <a:gd name="textAreaRight" fmla="*/ 116280 w 122040"/>
                  <a:gd name="textAreaTop" fmla="*/ 5760 h 412560"/>
                  <a:gd name="textAreaBottom" fmla="*/ 406800 h 412560"/>
                </a:gdLst>
                <a:ahLst/>
                <a:rect l="textAreaLeft" t="textAreaTop" r="textAreaRight" b="textAreaBottom"/>
                <a:pathLst>
                  <a:path w="21600" h="72868">
                    <a:moveTo>
                      <a:pt x="3600" y="0"/>
                    </a:moveTo>
                    <a:arcTo wR="3600" hR="3600" stAng="16200000" swAng="-5400000"/>
                    <a:lnTo>
                      <a:pt x="0" y="69268"/>
                    </a:lnTo>
                    <a:arcTo wR="3600" hR="3600" stAng="10800000" swAng="-5400000"/>
                    <a:lnTo>
                      <a:pt x="18000" y="7286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3b2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78120" y="591192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78120" y="603576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78120" y="60768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78120" y="61182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78120" y="61596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778120" y="620064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7028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84004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0836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949480" y="5980320"/>
              <a:ext cx="341280" cy="137160"/>
            </a:xfrm>
            <a:prstGeom prst="rect">
              <a:avLst/>
            </a:prstGeom>
            <a:solidFill>
              <a:srgbClr val="4d4d4d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0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478400" y="5792760"/>
            <a:ext cx="57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o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322880" y="5827680"/>
            <a:ext cx="122040" cy="412920"/>
            <a:chOff x="4322880" y="5827680"/>
            <a:chExt cx="122040" cy="412920"/>
          </a:xfrm>
        </p:grpSpPr>
        <p:sp>
          <p:nvSpPr>
            <p:cNvPr id="368" name=""/>
            <p:cNvSpPr/>
            <p:nvPr/>
          </p:nvSpPr>
          <p:spPr>
            <a:xfrm>
              <a:off x="4322880" y="582768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22880" y="5910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22880" y="60343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22880" y="60753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22880" y="61167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22880" y="6158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22880" y="61992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1468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8444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5276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494240" y="59612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26040" y="4091040"/>
            <a:ext cx="79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o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19640" y="424800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4680" y="4106880"/>
            <a:ext cx="1274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X70/CX70Emo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01920" y="4259160"/>
            <a:ext cx="3394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986360" y="3855960"/>
            <a:ext cx="208080" cy="387360"/>
            <a:chOff x="4986360" y="3855960"/>
            <a:chExt cx="208080" cy="387360"/>
          </a:xfrm>
        </p:grpSpPr>
        <p:sp>
          <p:nvSpPr>
            <p:cNvPr id="384" name=""/>
            <p:cNvSpPr/>
            <p:nvPr/>
          </p:nvSpPr>
          <p:spPr>
            <a:xfrm>
              <a:off x="5068800" y="3855960"/>
              <a:ext cx="125640" cy="232200"/>
            </a:xfrm>
            <a:custGeom>
              <a:avLst/>
              <a:gdLst>
                <a:gd name="textAreaLeft" fmla="*/ 6120 w 125640"/>
                <a:gd name="textAreaRight" fmla="*/ 119520 w 12564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867">
                  <a:moveTo>
                    <a:pt x="3600" y="0"/>
                  </a:moveTo>
                  <a:arcTo wR="3600" hR="3600" stAng="16200000" swAng="-5400000"/>
                  <a:lnTo>
                    <a:pt x="0" y="36267"/>
                  </a:lnTo>
                  <a:arcTo wR="3600" hR="3600" stAng="10800000" swAng="-5400000"/>
                  <a:lnTo>
                    <a:pt x="18000" y="398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86360" y="4086000"/>
              <a:ext cx="19440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68800" y="393336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68800" y="404964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55120" y="410760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29560" y="414648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11560" y="418536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023440" y="410760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89960" y="421668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052960" y="4110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086440" y="410760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629240" y="4137120"/>
            <a:ext cx="207360" cy="387360"/>
            <a:chOff x="4629240" y="4137120"/>
            <a:chExt cx="207360" cy="387360"/>
          </a:xfrm>
        </p:grpSpPr>
        <p:sp>
          <p:nvSpPr>
            <p:cNvPr id="396" name=""/>
            <p:cNvSpPr/>
            <p:nvPr/>
          </p:nvSpPr>
          <p:spPr>
            <a:xfrm>
              <a:off x="4711320" y="413712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9240" y="436716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11320" y="42145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11320" y="43308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97640" y="43887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72080" y="442764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54440" y="44665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4666320" y="438876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32840" y="449784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695840" y="439128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728960" y="438876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410000" y="4792680"/>
            <a:ext cx="725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egas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170760" y="2922480"/>
            <a:ext cx="207360" cy="387360"/>
            <a:chOff x="6170760" y="2922480"/>
            <a:chExt cx="207360" cy="387360"/>
          </a:xfrm>
        </p:grpSpPr>
        <p:sp>
          <p:nvSpPr>
            <p:cNvPr id="409" name=""/>
            <p:cNvSpPr/>
            <p:nvPr/>
          </p:nvSpPr>
          <p:spPr>
            <a:xfrm>
              <a:off x="6252840" y="292248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70760" y="315252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52840" y="29998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52840" y="31161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39160" y="31741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13600" y="32130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95960" y="32518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6207840" y="3174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74360" y="32832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237360" y="317664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270480" y="3174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367320" y="2406600"/>
            <a:ext cx="303120" cy="291960"/>
            <a:chOff x="6367320" y="2406600"/>
            <a:chExt cx="303120" cy="291960"/>
          </a:xfrm>
        </p:grpSpPr>
        <p:sp>
          <p:nvSpPr>
            <p:cNvPr id="421" name=""/>
            <p:cNvSpPr/>
            <p:nvPr/>
          </p:nvSpPr>
          <p:spPr>
            <a:xfrm>
              <a:off x="6367320" y="2555640"/>
              <a:ext cx="236520" cy="1429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51560" y="25765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19520" y="261144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99000" y="26463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413040" y="2576520"/>
              <a:ext cx="7596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72000" y="26748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447960" y="2577960"/>
              <a:ext cx="75960" cy="9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489360" y="257652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33920" y="2406600"/>
              <a:ext cx="236520" cy="1760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08440" y="24526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65600" y="2514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305080" y="1893960"/>
            <a:ext cx="55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K65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02000" y="4778280"/>
            <a:ext cx="132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op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lor re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16400" y="512604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48040" y="4433760"/>
            <a:ext cx="281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62440" y="4586400"/>
            <a:ext cx="3427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92880" y="2882880"/>
            <a:ext cx="79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i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784840" y="3848040"/>
            <a:ext cx="122400" cy="412920"/>
            <a:chOff x="5784840" y="3848040"/>
            <a:chExt cx="122400" cy="412920"/>
          </a:xfrm>
        </p:grpSpPr>
        <p:sp>
          <p:nvSpPr>
            <p:cNvPr id="439" name=""/>
            <p:cNvSpPr/>
            <p:nvPr/>
          </p:nvSpPr>
          <p:spPr>
            <a:xfrm>
              <a:off x="5784840" y="3848040"/>
              <a:ext cx="122400" cy="41292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718">
                  <a:moveTo>
                    <a:pt x="3600" y="0"/>
                  </a:moveTo>
                  <a:arcTo wR="3600" hR="3600" stAng="16200000" swAng="-5400000"/>
                  <a:lnTo>
                    <a:pt x="0" y="69118"/>
                  </a:lnTo>
                  <a:arcTo wR="3600" hR="3600" stAng="10800000" swAng="-5400000"/>
                  <a:lnTo>
                    <a:pt x="18000" y="72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84840" y="393048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84840" y="40543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84840" y="40957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84840" y="41371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84840" y="41781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84840" y="42195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7700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4676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1508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359000" y="4127400"/>
            <a:ext cx="120600" cy="412920"/>
            <a:chOff x="1359000" y="4127400"/>
            <a:chExt cx="120600" cy="412920"/>
          </a:xfrm>
        </p:grpSpPr>
        <p:sp>
          <p:nvSpPr>
            <p:cNvPr id="450" name=""/>
            <p:cNvSpPr/>
            <p:nvPr/>
          </p:nvSpPr>
          <p:spPr>
            <a:xfrm>
              <a:off x="1359000" y="4127400"/>
              <a:ext cx="120600" cy="412920"/>
            </a:xfrm>
            <a:custGeom>
              <a:avLst/>
              <a:gdLst>
                <a:gd name="textAreaLeft" fmla="*/ 5760 w 120600"/>
                <a:gd name="textAreaRight" fmla="*/ 114840 w 1206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3800">
                  <a:moveTo>
                    <a:pt x="3600" y="0"/>
                  </a:moveTo>
                  <a:arcTo wR="3600" hR="3600" stAng="16200000" swAng="-5400000"/>
                  <a:lnTo>
                    <a:pt x="0" y="70200"/>
                  </a:lnTo>
                  <a:arcTo wR="3600" hR="3600" stAng="10800000" swAng="-5400000"/>
                  <a:lnTo>
                    <a:pt x="18000" y="73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9000" y="420984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59000" y="433404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59000" y="43750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59000" y="44164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59000" y="44578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59000" y="449892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4936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1912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8924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792520" y="4424400"/>
            <a:ext cx="122040" cy="412560"/>
            <a:chOff x="2792520" y="4424400"/>
            <a:chExt cx="122040" cy="412560"/>
          </a:xfrm>
        </p:grpSpPr>
        <p:sp>
          <p:nvSpPr>
            <p:cNvPr id="461" name=""/>
            <p:cNvSpPr/>
            <p:nvPr/>
          </p:nvSpPr>
          <p:spPr>
            <a:xfrm>
              <a:off x="2792520" y="442440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92520" y="45068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92520" y="46306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92520" y="46717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92520" y="47131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92520" y="4754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92520" y="4795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8396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5336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2312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170760" y="2379600"/>
            <a:ext cx="190080" cy="349200"/>
            <a:chOff x="6170760" y="2379600"/>
            <a:chExt cx="190080" cy="349200"/>
          </a:xfrm>
        </p:grpSpPr>
        <p:sp>
          <p:nvSpPr>
            <p:cNvPr id="472" name=""/>
            <p:cNvSpPr/>
            <p:nvPr/>
          </p:nvSpPr>
          <p:spPr>
            <a:xfrm>
              <a:off x="6246360" y="2379600"/>
              <a:ext cx="114480" cy="209520"/>
            </a:xfrm>
            <a:custGeom>
              <a:avLst/>
              <a:gdLst>
                <a:gd name="textAreaLeft" fmla="*/ 5400 w 114480"/>
                <a:gd name="textAreaRight" fmla="*/ 109080 w 11448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39476">
                  <a:moveTo>
                    <a:pt x="3600" y="0"/>
                  </a:moveTo>
                  <a:arcTo wR="3600" hR="3600" stAng="16200000" swAng="-5400000"/>
                  <a:lnTo>
                    <a:pt x="0" y="35876"/>
                  </a:lnTo>
                  <a:arcTo wR="3600" hR="3600" stAng="10800000" swAng="-5400000"/>
                  <a:lnTo>
                    <a:pt x="18000" y="3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70760" y="2587680"/>
              <a:ext cx="17748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46360" y="244944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46360" y="255420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33400" y="260676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09280" y="2641680"/>
              <a:ext cx="115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93440" y="2676600"/>
              <a:ext cx="115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204600" y="2606760"/>
              <a:ext cx="5760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74000" y="270504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231960" y="2608200"/>
              <a:ext cx="5616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262200" y="2606760"/>
              <a:ext cx="5652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5737320" y="2347920"/>
            <a:ext cx="5349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54680" y="2498760"/>
            <a:ext cx="3301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73800" y="1100160"/>
            <a:ext cx="170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e1d3e"/>
                </a:solidFill>
                <a:latin typeface="Arial"/>
              </a:rPr>
              <a:t>For internal planning purposes</a:t>
            </a:r>
            <a:br>
              <a:rPr sz="1000"/>
            </a:br>
            <a:r>
              <a:rPr b="1" lang="en-GB" sz="1000" spc="-1" strike="noStrike">
                <a:solidFill>
                  <a:srgbClr val="9e1d3e"/>
                </a:solidFill>
                <a:latin typeface="Arial"/>
              </a:rPr>
              <a:t>only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62320" y="6669000"/>
            <a:ext cx="197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subject to change without not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152880" y="4824360"/>
            <a:ext cx="209160" cy="387360"/>
            <a:chOff x="3152880" y="4824360"/>
            <a:chExt cx="209160" cy="387360"/>
          </a:xfrm>
        </p:grpSpPr>
        <p:sp>
          <p:nvSpPr>
            <p:cNvPr id="488" name=""/>
            <p:cNvSpPr/>
            <p:nvPr/>
          </p:nvSpPr>
          <p:spPr>
            <a:xfrm>
              <a:off x="3235680" y="4824360"/>
              <a:ext cx="126360" cy="232200"/>
            </a:xfrm>
            <a:custGeom>
              <a:avLst/>
              <a:gdLst>
                <a:gd name="textAreaLeft" fmla="*/ 6120 w 126360"/>
                <a:gd name="textAreaRight" fmla="*/ 120240 w 12636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641">
                  <a:moveTo>
                    <a:pt x="3600" y="0"/>
                  </a:moveTo>
                  <a:arcTo wR="3600" hR="3600" stAng="16200000" swAng="-5400000"/>
                  <a:lnTo>
                    <a:pt x="0" y="36041"/>
                  </a:lnTo>
                  <a:arcTo wR="3600" hR="3600" stAng="10800000" swAng="-5400000"/>
                  <a:lnTo>
                    <a:pt x="18000" y="396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52880" y="5054400"/>
              <a:ext cx="19548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35680" y="490176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35680" y="501804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22000" y="507600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6080" y="511488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78440" y="515376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3189960" y="507600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56480" y="518508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219480" y="507852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253680" y="5076000"/>
              <a:ext cx="6336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4935600" y="436392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ies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445000" y="4400640"/>
            <a:ext cx="123840" cy="412560"/>
            <a:chOff x="5445000" y="4400640"/>
            <a:chExt cx="123840" cy="412560"/>
          </a:xfrm>
        </p:grpSpPr>
        <p:sp>
          <p:nvSpPr>
            <p:cNvPr id="501" name=""/>
            <p:cNvSpPr/>
            <p:nvPr/>
          </p:nvSpPr>
          <p:spPr>
            <a:xfrm>
              <a:off x="5445000" y="440064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45000" y="448308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45000" y="46069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45000" y="46479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45000" y="46893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45000" y="47307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45000" y="4771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3788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0692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47596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5041800" y="453240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8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51200" y="2367000"/>
            <a:ext cx="11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64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1)*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3591000" y="2401920"/>
            <a:ext cx="123480" cy="412560"/>
            <a:chOff x="3591000" y="2401920"/>
            <a:chExt cx="123480" cy="412560"/>
          </a:xfrm>
        </p:grpSpPr>
        <p:sp>
          <p:nvSpPr>
            <p:cNvPr id="514" name=""/>
            <p:cNvSpPr/>
            <p:nvPr/>
          </p:nvSpPr>
          <p:spPr>
            <a:xfrm>
              <a:off x="3591000" y="2401920"/>
              <a:ext cx="123480" cy="412560"/>
            </a:xfrm>
            <a:custGeom>
              <a:avLst/>
              <a:gdLst>
                <a:gd name="textAreaLeft" fmla="*/ 5760 w 123480"/>
                <a:gd name="textAreaRight" fmla="*/ 117720 w 12348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021">
                  <a:moveTo>
                    <a:pt x="3600" y="0"/>
                  </a:moveTo>
                  <a:arcTo wR="3600" hR="3600" stAng="16200000" swAng="-5400000"/>
                  <a:lnTo>
                    <a:pt x="0" y="68421"/>
                  </a:lnTo>
                  <a:arcTo wR="3600" hR="3600" stAng="10800000" swAng="-5400000"/>
                  <a:lnTo>
                    <a:pt x="18000" y="720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91000" y="248436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91000" y="260820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91000" y="264960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91000" y="26906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91000" y="27320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91000" y="27734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842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536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212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762360" y="2532240"/>
            <a:ext cx="3430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3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826240" y="2927520"/>
            <a:ext cx="123840" cy="412560"/>
            <a:chOff x="5826240" y="2927520"/>
            <a:chExt cx="123840" cy="412560"/>
          </a:xfrm>
        </p:grpSpPr>
        <p:sp>
          <p:nvSpPr>
            <p:cNvPr id="526" name=""/>
            <p:cNvSpPr/>
            <p:nvPr/>
          </p:nvSpPr>
          <p:spPr>
            <a:xfrm>
              <a:off x="5826240" y="292752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26240" y="30099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26240" y="3133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26240" y="31748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26240" y="32162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26240" y="32576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26240" y="329868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1912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8816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5720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335320" y="427356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2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4991040"/>
            <a:ext cx="2260440" cy="135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55720" y="2787480"/>
            <a:ext cx="29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Siemens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52320" y="2266920"/>
            <a:ext cx="29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Siemens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38360" y="351144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M65 Resc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271680" y="3421080"/>
            <a:ext cx="123840" cy="412560"/>
            <a:chOff x="3271680" y="3421080"/>
            <a:chExt cx="123840" cy="412560"/>
          </a:xfrm>
        </p:grpSpPr>
        <p:sp>
          <p:nvSpPr>
            <p:cNvPr id="542" name=""/>
            <p:cNvSpPr/>
            <p:nvPr/>
          </p:nvSpPr>
          <p:spPr>
            <a:xfrm>
              <a:off x="3271680" y="342108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71680" y="35035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71680" y="36273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71680" y="36684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71680" y="3709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71680" y="37512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71680" y="37922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6456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3360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0264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868480" y="35402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74920" y="3124080"/>
            <a:ext cx="1409760" cy="901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Dr. Thai Lai Pham</cp:lastModifiedBy>
  <dcterms:modified xsi:type="dcterms:W3CDTF">2004-12-06T17:22:26Z</dcterms:modified>
  <cp:revision>1007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38410643</vt:r8>
  </property>
  <property fmtid="{D5CDD505-2E9C-101B-9397-08002B2CF9AE}" pid="3" name="_AuthorEmail">
    <vt:lpwstr>jan.cron@siemens.com</vt:lpwstr>
  </property>
  <property fmtid="{D5CDD505-2E9C-101B-9397-08002B2CF9AE}" pid="4" name="_AuthorEmailDisplayName">
    <vt:lpwstr>Cron Jan ICM MP PBM PM</vt:lpwstr>
  </property>
  <property fmtid="{D5CDD505-2E9C-101B-9397-08002B2CF9AE}" pid="5" name="_EmailSubject">
    <vt:lpwstr>ppt</vt:lpwstr>
  </property>
  <property fmtid="{D5CDD505-2E9C-101B-9397-08002B2CF9AE}" pid="6" name="_PreviousAdHocReviewCycleID">
    <vt:r8>-1100798859</vt:r8>
  </property>
  <property fmtid="{D5CDD505-2E9C-101B-9397-08002B2CF9AE}" pid="7" name="_ReviewingToolsShownOnce">
    <vt:lpwstr/>
  </property>
</Properties>
</file>